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58D-3B15-4B82-97C3-4BB920EF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ED1-89D5-4C13-B4DD-D5D5235E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3DF-0A8E-4D0E-899B-18803C233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390-A207-41A4-8D5E-3329D5EF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9BD-D881-482C-A1E8-502FAE06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2BF-C37E-49B9-A3B4-BB69AE1C8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E5C2-262B-4EFA-BF73-7B423FB1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D87-0F4A-4901-8993-F9B910FA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983-919D-435E-9A41-DCE1E6D5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D8E1-E9CE-4AC4-9269-2A8EF824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A4F-F83D-4F7D-85E2-0353F1E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C6E2-51A0-42AC-89AF-9C91CC0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E5D8-C354-4047-8B35-7B2E1D41F2CF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BE3185D9-DB64-4DED-9744-000985E9AF5D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8461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Minion"/>
              </a:rPr>
              <a:t>EF81 – Production Plan / Operator Approval / EXIT-Stability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OPC-Europe Repor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14. Februar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roduction Plan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start to be achieved in cw07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826920"/>
            <a:ext cx="8015400" cy="539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2637000"/>
            <a:ext cx="360360" cy="36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Component Delivery Plan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volumes after DS not secur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884160"/>
            <a:ext cx="8456400" cy="484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5757840"/>
            <a:ext cx="8277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145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iving example above – already end of Feb we run in component shortage for upcoming production in March/Ap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Tremendous number of parallel approval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8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1st 18 variants have to be approved till cw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Tremendous number of parallel approvals plann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70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2nd 18 variants have to be approved till cw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7892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EXIT Stability EF81 significantly better compared to S75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Number of open defects still too high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 ~950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Results from SMS on EXIT Team / SW-Project Team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888240" cy="468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5913360"/>
            <a:ext cx="8277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8277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F81 – Main Problem Area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Beside expected Operator defects – main issues are still weaknesses from SXG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988920"/>
            <a:ext cx="87854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– Ranking: AS/S3/DS-relevant (~375 defec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prioritized defects are essenti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e-mail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MS/ SM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rows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RM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cessory support (various car kits, Audio Quality)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 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PM, file transf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Streaming (functionality available, seems to be setting probl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Clam shell topic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emory leak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4 basically nice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xt Steps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Operational Excellence is required to secure launch in March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981000"/>
            <a:ext cx="827748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eclare S3-HW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production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VF-approval phase A in cw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op immediately finger pointing in al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utting “own” function on save side doesn’t help the company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place project manager if they cannot perform the last 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s of Wednesday Feb 15th a TTM-Team will be established under lead of  TPM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which will secure AI-tracking on daily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inion"/>
                <a:ea typeface="文鼎中黑"/>
              </a:rPr>
              <a:t>We can launch EF81 in March if we all focu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Mario Topel</cp:lastModifiedBy>
  <dcterms:modified xsi:type="dcterms:W3CDTF">2006-02-14T17:44:31Z</dcterms:modified>
  <cp:revision>155</cp:revision>
  <dc:subject/>
  <dc:title>PHE</dc:title>
</cp:coreProperties>
</file>